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BDF-B16A-488E-94B4-82A87281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D15-F145-464B-9A89-84ADBC64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8BC-D104-445D-980B-8FD203AE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771-0D13-4749-9EDE-3184CF04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764A-4F18-4C66-89C1-9E9ACDC5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FFB7-6B08-4A84-8785-7C8DF6E2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CCEB-F177-42DC-BE9F-2A39529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99A9-3FAF-41E6-8650-4FEAB49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5D31-F2B9-4E66-8B60-EFC4BAA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B86B-93CD-4D8D-A315-71D91257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71D0-458F-4D67-86F0-CAC6C072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D23-B0EE-4B0D-9E14-463579D4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6A90-3E59-451C-9F5B-46239D3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331B-6B7A-4E12-828F-099318D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4477-4837-459C-BB39-22D7AC0D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1A3-3936-42AA-B326-3B8D8403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CE2-4AFC-4119-AED8-CA05D935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18B-EF90-4246-8FCC-06B904C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3A6-853F-4866-A5FF-47DC00E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888-09DE-4A1E-BCCA-2D64E857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F41-45F8-4500-BF40-F29B3E66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F81-0EC3-4207-A445-EDD4E35F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67A-470B-4D30-8CAF-AD884240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0AE-AD94-4A7C-8D8C-CCD5418D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7782-8D9F-4CD0-B1BF-CB06A284375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D7FE-54EC-469F-8AF0-AC1C361EC9D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N/name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Chris McC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ariabl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cc00"/>
                </a:solidFill>
                <a:latin typeface="Arial Black"/>
              </a:rPr>
              <a:t>A symbol or </a:t>
            </a:r>
            <a:r>
              <a:rPr b="0" lang="en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name</a:t>
            </a:r>
            <a:r>
              <a:rPr b="0" lang="en" sz="3200" spc="-1" strike="noStrike">
                <a:solidFill>
                  <a:srgbClr val="ffcc00"/>
                </a:solidFill>
                <a:latin typeface="Arial Black"/>
              </a:rPr>
              <a:t> that stands for a value. For example, in the expressio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r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finite combination of symbols that are well-formed according to applicable rule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3D Render of an Abacus in Bright Colors - Vendor: iClipart"/>
          <p:cNvPicPr/>
          <p:nvPr/>
        </p:nvPicPr>
        <p:blipFill>
          <a:blip r:embed="rId1"/>
          <a:stretch/>
        </p:blipFill>
        <p:spPr>
          <a:xfrm>
            <a:off x="4267080" y="42670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ymbolic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ymbolic rule is the function or formula you use or create to solve a problem. It is called symbolic because we use symbols (x, y, a, b) instead of words and numbe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\begin{displaymath}{\left[3x^2 +(2+3i)x+7\right] \cdot \left[x^4 +\frac{2}{3}x^2&#10;+(5+3i)\right]}&#10;\end{displaymath}"/>
          <p:cNvPicPr/>
          <p:nvPr/>
        </p:nvPicPr>
        <p:blipFill>
          <a:blip r:embed="rId1"/>
          <a:stretch/>
        </p:blipFill>
        <p:spPr>
          <a:xfrm>
            <a:off x="3505320" y="5257800"/>
            <a:ext cx="29048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56:57Z</dcterms:created>
  <dc:creator>christopher.mccain</dc:creator>
  <dc:description/>
  <dc:language>en-US</dc:language>
  <cp:lastModifiedBy>christopher.mccain</cp:lastModifiedBy>
  <dcterms:modified xsi:type="dcterms:W3CDTF">2010-11-23T14:18:55Z</dcterms:modified>
  <cp:revision>2</cp:revision>
  <dc:subject/>
  <dc:title>     Vocabulary</dc:title>
</cp:coreProperties>
</file>